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3.jpeg" ContentType="image/jpeg"/>
  <Override PartName="/ppt/media/image60.jpeg" ContentType="image/jpeg"/>
  <Override PartName="/ppt/media/image37.jpeg" ContentType="image/jpeg"/>
  <Override PartName="/ppt/media/image24.jpeg" ContentType="image/jpe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70.jpeg" ContentType="image/jpeg"/>
  <Override PartName="/ppt/media/image43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65.png" ContentType="image/png"/>
  <Override PartName="/ppt/media/image46.jpeg" ContentType="image/jpeg"/>
  <Override PartName="/ppt/media/image20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25.jpeg" ContentType="image/jpeg"/>
  <Override PartName="/ppt/media/image26.jpeg" ContentType="image/jpeg"/>
  <Override PartName="/ppt/media/image27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jpeg" ContentType="image/jpeg"/>
  <Override PartName="/ppt/media/image4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F015-C09D-4CBF-B75A-4535A49B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B83-C1CE-4F0F-B281-495F0A9A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81AD-2023-4432-8823-1E0ABC90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4894-6CBD-401A-97FF-031E5918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228-B05A-43A2-BEBE-EBBD0B77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D4C-678A-4C6C-9D4E-E9432AF2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3AFC-5982-47E3-B842-728B1573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0CB-E086-4145-9F9E-58F5E30E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CE7-48D3-4B1B-9B63-C479F3FD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42A-57E3-4CAC-8372-E94FCEB1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0E68-C021-4458-B33B-FF00CBC1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262-B5EC-4B87-9CAF-724E04E9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6719-AC13-4C89-A078-24071F563A1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d.yimg.com%2Fus.yimg.com%2Fp%2Frids%2F20080512%2Fi%2Fra3794614394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bbs.dz169.net%2FUploadFile%2F2008-5%2F20085130432787450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d.yimg.com%2Fus.yimg.com%2Fp%2Frids%2F20080512%2Fi%2Fr2132806517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i1.sinaimg.cn%2Fdy%2Fc%2Fp%2F2008-05-13%2FU1366P1T1D15524264F21DT20080513001818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d.yimg.com%2Fus.yimg.com%2Fp%2Frids%2F20080512%2Fi%2Fr3218621870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laiba.tianya.cn%2Flaiba%2Fimages%2F361584%2F12106857331080785589%2FA%2F1%2Fl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laiba.tianya.cn%2Flaiba%2Fimages%2F361584%2F12106856160414129239%2FA%2F1%2Fl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i3.sinaimg.cn%2Fdy%2Fc%2Fp%2F2008-05-13%2FU1473P1T1D15524408F23DT20080513012714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laiba.tianya.cn/laiba/ShowImage?src=http%3A%2F%2Fimg1.qq.com%2Fnews%2Fpics%2F10389%2F10389814.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laiba.tianya.cn%2Flaiba%2Fimages%2F429006%2F12107154892129314415%2FA%2F1%2Fl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d.yimg.com%2Fus.yimg.com%2Fp%2Fap%2F20080512%2Fcapt.ab3540de5217443198ff63fe14b79599.china_earthquake_bej803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d.yimg.com%2Fus.yimg.com%2Fp%2Frids%2F20080512%2Fi%2Fr1665743019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d.yimg.com%2Fus.yimg.com%2Fp%2Frids%2F20080512%2Fi%2Fr4205301312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i1.sinaimg.cn%2Fdy%2Fc%2F2008-05-12%2FU2494P1T1D15523628F21DT20080512213821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d.yimg.com%2Fus.yimg.com%2Fp%2Fnm%2F20080512%2F2008_05_12t082435_450x309_us_quake.jp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d.yimg.com%2Fus.yimg.com%2Fp%2Frids%2F20080512%2Fi%2Fr2350993695.jpg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laiba.tianya.cn%2Flaiba%2Fimages%2F429006%2F12107155371624911868%2FA%2F1%2Fl.jpg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laiba.tianya.cn%2Flaiba%2Fimages%2F361584%2F12106858321547312365%2FA%2F1%2Fl.jpg" TargetMode="Externa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laiba.tianya.cn%2Flaiba%2Fimages%2F361584%2F12106858321547312366%2FA%2F1%2Fl.jpg" TargetMode="External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laiba.tianya.cn%2Flaiba%2Fimages%2F361584%2F12106858331547312368%2FA%2F1%2Fl.jpg" TargetMode="Externa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i1.sinaimg.cn%2Fdy%2Fc%2Fp%2F2008-05-13%2FU1366P1T1D15524244F21DT20080513001025.jpg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laiba.tianya.cn%2Flaiba%2Fimages%2F429006%2F12107154892129314414%2FA%2F1%2Fl.jpg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d.yimg.com%2Fus.yimg.com%2Fp%2Frids%2F20080512%2Fi%2Fr3863379761.jpg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img15.tianya.cn%2Fphoto%2F2008%2F5%2F13%2F7944048_15691771.jpg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laiba.tianya.cn%2Flaiba%2Fimages%2F412455%2F12106111140367606122%2FA%2F1%2Fl.jpg" TargetMode="External"/><Relationship Id="rId2" Type="http://schemas.openxmlformats.org/officeDocument/2006/relationships/image" Target="../media/image55.jpeg"/><Relationship Id="rId3" Type="http://schemas.openxmlformats.org/officeDocument/2006/relationships/hyperlink" Target="http://laiba.tianya.cn/laiba/ShowImage?src=http%3A%2F%2Flaiba.tianya.cn%2Flaiba%2Fimages%2F412455%2F12106111140367606123%2FA%2F1%2Fl.jpg" TargetMode="External"/><Relationship Id="rId4" Type="http://schemas.openxmlformats.org/officeDocument/2006/relationships/image" Target="../media/image56.jpeg"/><Relationship Id="rId5" Type="http://schemas.openxmlformats.org/officeDocument/2006/relationships/hyperlink" Target="http://laiba.tianya.cn/laiba/ShowImage?src=http%3A%2F%2Flaiba.tianya.cn%2Flaiba%2Fimages%2F412455%2F12106111140367606124%2FA%2F1%2Fl.jpg" TargetMode="External"/><Relationship Id="rId6" Type="http://schemas.openxmlformats.org/officeDocument/2006/relationships/image" Target="../media/image57.jpeg"/><Relationship Id="rId7" Type="http://schemas.openxmlformats.org/officeDocument/2006/relationships/hyperlink" Target="http://laiba.tianya.cn/laiba/ShowImage?src=http%3A%2F%2Flaiba.tianya.cn%2Flaiba%2Fimages%2F412455%2F12106111140367606125%2FA%2F1%2Fl.jpg" TargetMode="External"/><Relationship Id="rId8" Type="http://schemas.openxmlformats.org/officeDocument/2006/relationships/image" Target="../media/image58.jpeg"/><Relationship Id="rId9" Type="http://schemas.openxmlformats.org/officeDocument/2006/relationships/hyperlink" Target="http://laiba.tianya.cn/laiba/ShowImage?src=http%3A%2F%2Flaiba.tianya.cn%2Flaiba%2Fimages%2F412455%2F12106111150367606126%2FA%2F1%2Fl.jpg" TargetMode="External"/><Relationship Id="rId10" Type="http://schemas.openxmlformats.org/officeDocument/2006/relationships/image" Target="../media/image59.jpeg"/><Relationship Id="rId1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laiba.tianya.cn%2Flaiba%2Fimages%2F95351%2F12106549861467430101%2FA%2F1%2Fl.jpg" TargetMode="External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laiba.tianya.cn%2Flaiba%2Fimages%2F429006%2F12107155371624911870%2FA%2F1%2Fl.jpg" TargetMode="External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laiba.tianya.cn%2Flaiba%2Fimages%2F361584%2F12106858321547312367%2FA%2F1%2Fl.jpg" TargetMode="External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http://laiba.tianya.cn/laiba/ShowImage?src=http%3A%2F%2Flaiba.tianya.cn%2Flaiba%2Fimages%2F429006%2F12107276260232951330%2FA%2F1%2Fl.jpg" TargetMode="External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ews.sina.com.cn/c/p/2008-05-12/153815522667.s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4038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黑体"/>
              </a:rPr>
              <a:t>努力奋斗，共度难关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图片点击可在新窗口打开查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15456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图文：四川南充医院将新生儿转移到空旷地带避险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1076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10761"/>
                            </p:stCondLst>
                            <p:childTnLst>
                              <p:par>
                                <p:cTn id="23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入夜，只能席地而睡，多少人无家可归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316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图片点击可在新窗口打开查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图片点击可在新窗口打开查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8" name="" descr="图片点击可在新窗口打开查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图片点击可在新窗口打开查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1326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228600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大地一声怒吼，祖国山川移为平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52280"/>
            <a:ext cx="8591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	</a:t>
            </a:r>
            <a:r>
              <a:rPr b="1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	</a:t>
            </a:r>
            <a:r>
              <a:rPr b="1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这个时刻，是全中国人民都不该忘记的时刻，</a:t>
            </a:r>
            <a:r>
              <a:rPr b="1" lang="zh-CN" sz="6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2008</a:t>
            </a:r>
            <a:r>
              <a:rPr b="1" lang="zh-CN" sz="6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年</a:t>
            </a:r>
            <a:r>
              <a:rPr b="1" lang="zh-CN" sz="6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5</a:t>
            </a:r>
            <a:r>
              <a:rPr b="1" lang="zh-CN" sz="6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月</a:t>
            </a:r>
            <a:r>
              <a:rPr b="1" lang="zh-CN" sz="6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12</a:t>
            </a:r>
            <a:r>
              <a:rPr b="1" lang="zh-CN" sz="6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日下午</a:t>
            </a:r>
            <a:r>
              <a:rPr b="1" lang="zh-CN" sz="6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14</a:t>
            </a:r>
            <a:r>
              <a:rPr b="1" lang="zh-CN" sz="6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时</a:t>
            </a:r>
            <a:r>
              <a:rPr b="1" lang="zh-CN" sz="6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28</a:t>
            </a:r>
            <a:r>
              <a:rPr b="1" lang="zh-CN" sz="6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分</a:t>
            </a:r>
            <a:r>
              <a:rPr b="1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。四川汶川县发生了</a:t>
            </a:r>
            <a:r>
              <a:rPr b="1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7.8</a:t>
            </a:r>
            <a:r>
              <a:rPr b="1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级灾难性地震。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228600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黑体"/>
              </a:rPr>
              <a:t>废墟中的人们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324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2" name="" descr="图片点击可在新窗口打开查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867280" cy="3886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图片点击可在新窗口打开查看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24382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137160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黑体"/>
              </a:rPr>
              <a:t>同在一片蓝天下，相同的年纪，不同的命运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都江堰聚源中学教学楼和宿舍楼轰然倒地 ，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个班级，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1000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多名学生被埋压在底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梁平小学教学楼倒塌，数百名小学生葬身于此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点击在新窗口中查看该图片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点击在新窗口中查看该图片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6888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图片点击可在新窗口打开查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5674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图片点击可在新窗口打开查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24528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图片点击可在新窗口打开查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7" name="" descr="图片点击可在新窗口打开查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0"/>
            <a:ext cx="488628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图片点击可在新窗口打开查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28164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1828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点击在新窗口中查看该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图文：新快报5月13日头版关注四川地震"/>
          <p:cNvPicPr/>
          <p:nvPr/>
        </p:nvPicPr>
        <p:blipFill>
          <a:blip r:embed="rId2"/>
          <a:stretch/>
        </p:blipFill>
        <p:spPr>
          <a:xfrm>
            <a:off x="4572000" y="0"/>
            <a:ext cx="468324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点击在新窗口中查看该图片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19128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点击在新窗口中查看该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点击在新窗口中查看该图片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 advTm="15000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图片点击可在新窗口打开查看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都江堰中医院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层楼倒塌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图片点击可在新窗口打开查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1326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03396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0"/>
            <a:ext cx="81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	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此次地震强度之大，波及范围之广也是历史罕见的。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7.8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级与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1976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年唐山大地震一样，但此次振源只离地表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30km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属于浅层地震，振动了大半个中国。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7.8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级大地震释放的能量相当于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400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个原子弹的威力，且余震多达一千多个。可谓是天将降大难于中国也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2286000"/>
            <a:ext cx="85345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ffff"/>
                </a:solidFill>
                <a:latin typeface="Arial"/>
                <a:ea typeface="黑体"/>
              </a:rPr>
              <a:t>请救救他们吧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79" name="" descr="图片点击可在新窗口打开查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0"/>
            <a:ext cx="513576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633744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图片点击可在新窗口打开查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2676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可爱的孩子们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..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可爱的弟弟妹妹们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愿你们一路走好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...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希望你们在天国生活幸福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....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哭泣的哥哥给你们和你们的亲人最虔诚的祝福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2286000"/>
            <a:ext cx="85345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ffffff"/>
                </a:solidFill>
                <a:latin typeface="Arial"/>
                <a:ea typeface="黑体"/>
              </a:rPr>
              <a:t>地震了…</a:t>
            </a:r>
            <a:endParaRPr b="0" lang="en-US" sz="1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据说，振源中心，汶川县交通、通信、电力中断，里面数十万人生死未卜…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0880" y="228600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黑体"/>
              </a:rPr>
              <a:t>汶川的同胞们，我们过不来呀！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图片点击可在新窗口打开查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2916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2816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0" y="2895480"/>
            <a:ext cx="4495680" cy="28670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4343400" y="289548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206" name="" descr="图片点击可在新窗口打开查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图片点击可在新窗口打开查看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图片点击可在新窗口打开查看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657600"/>
            <a:ext cx="3581280" cy="3257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图片点击可在新窗口打开查看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57600" y="3276720"/>
            <a:ext cx="2685960" cy="3581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图片点击可在新窗口打开查看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43560" y="3124080"/>
            <a:ext cx="2800440" cy="373392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中央国务院派遣军用飞机实行空投，无情的天气使得解放军无法降落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0"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1371600"/>
            <a:ext cx="853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为死难者，让我们默哀吧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图文：河南郑州大厦楼内跑出的民众"/>
          <p:cNvPicPr/>
          <p:nvPr/>
        </p:nvPicPr>
        <p:blipFill>
          <a:blip r:embed="rId1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图片点击可在新窗口打开查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0"/>
            <a:ext cx="7772400" cy="686916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228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28600" y="293760"/>
            <a:ext cx="8763120" cy="656424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0880" y="1371600"/>
            <a:ext cx="876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为苦难人们，让我们祈祷吧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点击在新窗口中查看该图片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743120" y="709560"/>
            <a:ext cx="5657760" cy="543888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305920" cy="52848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894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点击图片进入下一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08004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点击在新窗口中查看该图片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62120" y="3808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让我们为死难者默哀一分钟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838188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汶川大地震，请铭记这块历史伤疤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没有任何征兆，一切都来得那么的突如其然，仿佛就像一个可怕的噩梦，近万与我们血肉相连的同胞以及他们厮守了一辈子的家园，在一瞬间化为了灰烬，凝固成了一段令人难以忘却的历史伤痛。汶川大地震再次让我们见证了自然的肆无忌惮，其爆发出的巨大能量，甚至影响到了千里之外、万里之外的宁夏、青海、甘肃、河南、山西、陕西、山东、云南、湖南、湖北、上海、江西等十几个省份。几万人，几万个鲜活的生命悄然远去，不幸成了大自然的祭品，他们用生命提醒我们，在大自然面前，人类依然渺小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灾难冷酷无情，但人心是跳跃的，是温暖的，是充满温情的，上至主席、总理，下至黎民百姓，中国，这个简单的符号，将所有同胞的心都连接在了一起，不分南北，无论东西，论坛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手机，人们在以各种不同的方式奔走相告，传递同样一个信号：汶川发生了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7.8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级大地震，所有的人都在密切关注汶川地震，并为之祈祷、默哀，为亲人，为朋友，为灾区，熟悉的，陌生的，不分彼此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每一次灾难与危机，都是一次大考验，考验着我们应对的应急机制，考验着人类的团结互助，也是一次检测世间人情冷暖的契机。这一次地震虽然来得突然，没有征兆，但信息在第一时间得到了广泛传播，各种谣言在刹那间不攻自破，人心得到了凝聚，经住了考验，各方众志成城，为灾区排忧解难，给灾区人民送去粮食、帐篷，让他们失去亲人、家园的痛苦化做成了重建家园的巨大信心，因为，灾难并不可怕，可怕的是失去了生活的信心与勇气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每一个公民都是国家，失去任何一个鲜活的生命，都是对国家的一种损失，风雨历程，地震苦难，几万个鲜活的生命离开了，他们替我们受过，以生命告慰世间，在为他们默默祈祷默哀的同时，也希望，每一个公民都能在国家的强大庇护下平安无恙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　死伤的数字还在不断变化，但心依然温暖，因为，有党和国家与灾区人民在一起，有全国同胞心连心，我们相信，经历了诸多灾难的中华民族一定能战胜这次地震灾害，花还会灿烂，小鸟依然会歌唱，生活依然美好，唯一不变的是，我们需要铭记这块伤疤，吸取惨痛教训，以此为鉴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1066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朗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天啦！看得人心酸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想哭的冲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默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...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心痛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无辜的孩子们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愿你们在天堂里安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我的心在滴血，好难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看一次哭一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我们能做点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简直太悲惨了，像受灾的地区表示最真诚的祝福！！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好难受，真希望这一切快过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胞们，要挺住啊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不敢相信自己的眼睛，简直是太惨了，祝福他们所有的人都能够渡过难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天佑我中华， 不要在出现这样子的事情了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自然的灾难面前，我们无法抵抗，但我们可以团结起来减轻灾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我们能做点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四川人民，全国人民和你们在一起，一直在一起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我是模糊着眼泪在打字，为灾区群众祈祷吧！！能献血的就献血，能捐款的就捐款，总之现在的重中之重就是尽自己的一份力切切实实帮助灾区人民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来自“天涯社区”，全国人民在呼喊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5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5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5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500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500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500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500"/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500"/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500"/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500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500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500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500"/>
                                        <p:tgtEl>
                                          <p:spTgt spid="2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500"/>
                                        <p:tgtEl>
                                          <p:spTgt spid="2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500"/>
                                        <p:tgtEl>
                                          <p:spTgt spid="2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500"/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500"/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500"/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面对危难，我们该如何应对！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&gt;&gt;&gt;&gt;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Arial"/>
              </a:rPr>
              <a:t>成都几则小故事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人很多，从五楼开始往下，都在跑楼梯，下到梯口，一个保安正在维持秩序，叫大家不要惊慌，都到中间空坝子里去。那时候依然地震得厉害，走路都走不稳，孵化园楼宇间的高柱间，穿插的钢管互相碰击，像跳绳一样，声音卡卡响，一时呆了，到处都在打电话，全都打不通了。回身一看门口，保安依然在维持秩序：站到中间去，别离楼太近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好不容易回到家里，东西撒了一地，来不及收拾，都担心余震，拿了衣物和食物，赶快往三环空地跑。出来看到小商店还在开着，心里猜想方便面不会卖到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块了吧？结果没一家涨价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都不敢回家，因为住的是电梯，楼层比较高。于是大家组织在外面过夜了，一齐听车里的声音，电台里说有人需要捐血，而接受捐血的地点只有两个，都离得较远。身边有邻居说话了：走，坐三轮去。走了一会儿又回来了，因为车流太大，确实走不过去。电台又在说：去的人太多了，献血的人已经在排队。那一瞬间突然想哭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点左右，三环上一些车子过去，飞快的速度，边上的道走过很多挖挖机，知道是去灾区的，所有的小车子自动让道。又过了一会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余辆同一外观的，标注公安的车开过去，速度之快，应该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码左右。全闪烁着灯。我们都知道：那是温总理的车队，因为从机场过来去都江堰，正是这一线。不说是否作秀，一个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多岁的老人了，在我们都在街上担心余震的时候，他去了最前线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遇到一个熟识的邻居，从天府广场那边回来的家，他说路上见到一个交警，嗓音完全哑了，但还是在指挥交通。又说看到华西医院那边上，全是病人，树上挂满了吊瓶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继续收听收音机，不断了解灾区消息，听着不断扩大的数字，坐一起的朋友们都显得很沉默，在自然灾害面前，人的生命真的太渺小了。一个朋友轻声说：这次我一定捐款，虽然我工资不高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都江堰第一人民医院伤员太多，告急，电台号召出租车过去帮忙，不一会回返回消息说：路上已经完全是绿色的车了，再过一段时间又有消息说：去的出租车太多了，医院已经在组织去别的需要的地方去。有一个出租打进电话讲那边的情况，他已经运了一个伤员到成都来，再次去第二趟。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请伸出我们双手，再铸美好的家园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户名：中国红十字基金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开户银行：中国银行北京分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账号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800100921908091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开户银行：中国工商银行北京东四南支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账号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020000101901448387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开户银行：中国建设银行北京朝内大街支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账号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10010703000590004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848720" y="5638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9154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战士用人墙挡住滚滚浪潮！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医生用爱心战胜非典病毒！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百姓用双手融化冰天雪地！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人民用钢铁长城铸就奇迹！天灾人祸让我们团结一起！众志成城造就我中华崛起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为明天中国的强大崛起而发奋图强！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36:27Z</dcterms:modified>
  <cp:revision>12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